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69560"/>
        <c:axId val="82740302"/>
      </c:barChart>
      <c:catAx>
        <c:axId val="10869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0302"/>
        <c:crosses val="autoZero"/>
        <c:auto val="1"/>
        <c:lblAlgn val="ctr"/>
        <c:lblOffset val="100"/>
        <c:noMultiLvlLbl val="0"/>
      </c:catAx>
      <c:valAx>
        <c:axId val="827403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69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F45A-29BF-4F7D-94AE-77FF9682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E7E-4FA5-4D72-8F80-8E67D726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350-8240-41E6-8B8E-168936E4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431-C22E-4DCF-A1F0-39750CAC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CA9-7096-431C-8894-5FCB2DA6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54D-A420-4504-B587-7E79214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CB8-C61B-47FE-B38C-E79AFD35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00A-C7BD-4F1E-A2F2-69AEE38A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2F6-71F5-4449-A84F-BE2374C2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F99-77C3-4082-82AE-1B6F9130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B82-24F1-4C4A-8633-DC5EA13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134-3546-479F-9DFB-0A5500FE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A3223-C387-457F-A660-DA5512C091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